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02AC8-5527-4FF6-9BF9-E5B5FF5D19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C71A64-FE5A-478C-9F5E-998E19EF1D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DAE272-19C2-4258-916C-CE7E4F00E4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DA1E95-658C-41C3-977B-DFFAA8C825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223EC7-27DB-4DBA-AD90-FD9CCDF964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1C1E20-B829-490B-8FC7-7A5E5B537E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8D9BD1-041E-4F4D-8FBA-314530D7B9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F2401B-5F0D-4F0E-9858-D51AABB6C0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E45409-0B62-4947-A1D2-F1751DE81D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D34FF3-6B5C-450C-95C3-8B6F5ECB6B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ABA2D9-26C9-4990-9928-94C9AEED78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BEAE05-8A90-4CDF-99A1-3DE3774AE0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2BA999-D667-4AF7-A887-223A78F230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B6CA4-6C3D-4FDF-A924-EB6D7F53D5DA}" type="datetime3">
              <a:rPr b="0" lang="en-US" sz="1400" spc="-1" strike="noStrike">
                <a:solidFill>
                  <a:srgbClr val="ffffff"/>
                </a:solidFill>
                <a:latin typeface="Times New Roman"/>
              </a:rPr>
              <a:t>July 28,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71C4E-46F9-4770-A715-279AA7EA134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ADDADC96-B949-4B36-9AC1-68B9D87BF4B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42B6A6B6-2316-4215-BF43-7A7844E070E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F63290C4-AA4E-44A2-9905-375A229C1A9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5A8D6F83-C286-4E1F-8589-8CF1D5A1BB5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CD445485-0390-4246-B5C6-2BCCA595EDA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17EC5AC4-CFCF-4225-AA75-16056C276473}"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75554877-BD81-49ED-8A96-1F5F75CA986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D6B84509-76FA-4400-949A-473793D08CD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C889DE95-20E4-4C12-8365-ED167861ED1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6C2E27C7-F800-4CE8-9967-5F067AF6D0E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21D1EB52-64FF-43D7-9645-8B4A6C0C9F9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526FAF10-E138-4D5A-A05F-96019E54AC7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22EE1F4D-03DD-48C0-B5DC-054F7ED80AA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3CBC5AA8-E2FD-4E7F-B512-532B8DD846E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